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0BE-8815-4474-A0E1-A972DB7B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B33-FFCF-4387-9450-E71B99FC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FDB3D-616C-48CC-9969-58E5BEC6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D1AD7-F8C6-46E5-BA71-7ED5EAD1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32A62-5AB0-4C47-8A14-E5F05C23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DE33F-B77A-4BB9-9E25-2761105B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B5822-5520-4862-820A-0C593012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CCA0C-A198-4429-A32F-30F75EEE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99E0E-549D-45F7-A12B-5BBC4F5E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17A24-3E99-4B58-B614-DCA0941E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881E3-EDE7-4D4C-91F9-1CD6672B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84F8F-1A40-4DE3-BD62-4B06E645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A1C-7435-491B-A370-758B3413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6529A-0E93-45FD-84B8-BC7B86DE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49E83-842E-4DC9-88C6-B1F7CA77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2BF33-7ED6-4406-AC93-23F25065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594EA-8120-491E-B894-CEE6D5DC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D5AD5-2A76-4978-B320-70CC48C1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7B9BB-DBBE-4C2C-8DA7-65BE52A0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2C8CC-238D-4CE3-8DE0-9F3E24C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AF8D1-2C07-4E0F-AAA1-FD1AF633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266E7-DCA8-41ED-9472-AD74446A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E42CA-DE0A-485D-96EF-EC02E251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285-C09C-49D5-ACA8-E4A4FB25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0DE55-3F2F-4E2E-B147-871767E4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1AE85-2D1C-4194-953C-3874C051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DD994-C7FF-43FD-BCAA-D93DAF27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DB229-FDAA-4975-B1F3-AAF03186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08247-EE38-4145-B715-F4784371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BE8C5-F85C-45F5-97D0-AA86AE2A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8C887-6010-48A8-B0E2-D0C1134C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F2B33-2FC1-4A5E-A833-9C147D1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6D7A9-7E63-4DAC-AD06-95DB6F1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12BEA-3500-456A-A29A-973381FD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79AB-25E2-4C96-9E26-A8098861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0A760-A0D1-4C8A-93AC-1776675F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20B42-684A-484C-B5C8-01864A88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4471D-65E1-4A18-BEC2-4507159E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8CFE9-CCBD-4166-9869-4E438F0B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0B128-B578-4E03-884A-08E1037E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E99B5-6BCC-46B3-826E-7AD4C75A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024FC-8B80-40C9-88B0-272E076B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02E11-B301-46EC-BF09-99A43DCD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9D1EA-9392-4058-B199-29CB502C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05DBE-EB3A-446C-B732-5B2B6BD4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AB8D-84A0-41A3-9BB5-12A04A70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AF2E6-A874-4621-A4E0-587171D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4FD2A-BA31-441B-9539-8F1EAE6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29860-30F9-4062-9523-5E50C416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A003A-6D60-4FCA-968F-B8A850BE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3ACFE-3448-4CBE-A86D-67855042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9748-3721-4AA0-946C-9BBF0FFF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8B03-D6D7-4EBF-B17B-C209429C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B4E7-7431-441A-9C8A-62716A7F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F219-F43F-4376-8F31-C4ED4ACC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A127-918D-4898-A645-58B69C7C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2B0-05A6-49A4-965C-90991C57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1613-7A66-4261-AAC7-7EBF030D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2852-5ED6-402C-9C8E-71BD0B9E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2BC7-EEE9-4558-B3A1-02860613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967D-630C-4565-931B-5666BFCE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961B-2A51-4EF2-BB00-2CFD8C99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5AFD-6807-4C9D-B66E-5040838C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9B9B-CD47-4CB4-A12F-4AA55B17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944F0-3AC3-4D2D-80E5-B5D68C7A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530D0-CDDC-4C8C-B2B4-DA9855FE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56C1-2C0F-4F47-9CE2-5DC21B53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ECF-A768-4844-91A6-8348100A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4642-8336-4DF6-9047-6267CDEB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F3F4-E6F2-4A37-97B6-635D50FA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1DBE-1CCF-4660-8976-6229C00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2DC8-C95F-4D85-B291-E3A41AF2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21D2-9154-4583-801A-8AE4FE06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E9F6D-2EA8-4EA0-9A7A-12A3826E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ED98-D29C-4554-8B8C-C8ABFDAD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00DE-BB69-44FC-B21B-6BA852A8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F49E-BDDD-4634-B17B-330F41A6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6827-82CB-480C-B51E-595193B8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007-B44E-45AC-BCB3-6D941CE9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B75B-59AF-48A8-A8D0-91910F72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E83A9-E76E-4D15-93FE-F50A85B0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703F-36FE-419C-8456-67DDA4A8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8194A-DB79-466C-9B68-5011E175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F0F3-1BF1-4E3D-9DFF-08C1416C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92EE0-8676-4B2B-835C-096C538E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70EA6-609F-4221-A8CA-9999D9B7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54BE-7FA2-439F-8528-F13CC2A0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27ED-C4C1-4B42-9D17-6BBEA0BF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556C7-97CE-4E1C-9244-D05B5E83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8C9-C51D-49CA-8956-93A24FAF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B843B-BEF1-4FB7-BC71-9873B22A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5194C-FF15-4074-931C-0E47E798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96598-A4B6-4EC8-A4B9-C2E60A88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2EE11-CA0F-4DE7-8B6B-8F5FE1BA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FAF45-7B72-42E7-BD01-BD0C887C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F7B84-66EE-459D-A6F3-2FDE3BFA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123B-0A26-4C67-BB33-5F15F860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FE89A-0DF5-44F0-A0BC-D26F3A0C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F9A0C-95AB-488E-A084-09985CE4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EA810-49C3-4BD7-93DA-2E715D33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622-D050-44DA-A218-412265F8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3BFE-66DC-4ACA-8CE1-566734B2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D9020-E9FB-4027-8469-D79A0518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1CA5B-5E37-411C-930A-8F371AAD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B68BE-FDB2-45FC-A379-DC030DDF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92E6F-66D5-4290-8566-42FE4E4C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9AB46-FE6D-48C5-9F1B-934B2527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99C45-8102-4416-A0B9-CB60690D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CD544-1953-4646-B470-6DAC35A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6D3C3-31FE-4AED-A34F-96D68DC3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8B018-D2C3-43CF-866E-36CD996B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EEA-D295-4676-B867-FE8C6B9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8629C-E830-4AC0-BA4E-37256A32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C503C-B66D-411D-AB1B-1ADE68F5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DAA90-9BEF-4B8A-B0CB-9721EC0C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B6DF7-821B-4B00-90D5-19B34075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4DD9B-E66A-4607-8045-F2293425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C760E-F4B7-4C46-93C5-E5F87A5B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FA1E3-24B8-49F4-AC85-C6700365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A7E58-C308-40AB-8672-E2E71E6A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DE0CB-71D8-4B19-8A84-EBB37F6A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81B53-2768-41ED-B52C-2768B742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AB3-B88C-4504-B5AA-7FC63C0B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774C0-1877-4539-BDDF-033D1ACC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2D22F-5350-4D7B-BD33-6BA7D8D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4B21C-8CC3-4D9C-B31D-660CACE6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CDE9D-A0EC-4423-9A33-78BC3564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2F86-48BD-4DA4-9D0B-43754946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45AC6-E27A-4FFC-8533-AC2D2869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004A2-720A-415A-BA72-D31D4CC9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53370-4CE2-4A90-A5CD-E2663D8A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157B6-86AA-41BF-80E8-54A32570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19576-D56B-4E39-925B-7D37EE28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F57-CCAA-4D0D-9653-49D1C20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726E1-36E4-4A0D-AE38-C6B16D62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C67E4-36F8-470D-BBDA-C0E2E8C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E1265-D797-4B73-9E1A-E7212FC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EE50F-C792-4CE5-988E-12F41FE0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7CF30-1D1E-445C-88F1-33747649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329F9-3D19-43F5-A361-086AC00A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1D807-1D44-407F-9345-9C0C4AD2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95D11-877B-4EEC-B8E5-F9476C60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57E67-35AC-4C36-8C09-43381ED6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9A5C2-4A72-4C44-9781-25C5FC42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7E37-33E1-42BC-A0FE-4D8B759EA9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1E3E-B4DD-4551-AE85-1F1E3FC7D7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050C-47C7-4DCF-8C6D-1CA641D40F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F4EB-BF42-4089-ABA1-77C8760351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37F7-FC64-4DE5-9257-8BFA93C73BD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E5E3-A54B-49BE-AAFE-A73BE985D7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36B9-DBF2-4B79-96CA-33488F168E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406-F8A6-46D6-9244-FE2806FC76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EB08-D8B0-4F64-90A2-2EE3A44134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20CF-9C46-4356-A505-03AAE32B72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7B5B-B88F-4F25-945E-9AD4133F9E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A23A-21D7-491B-8CD9-C471117BAB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878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Fruit &amp; Vegetable Market Observator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ub-Group Citru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TextBox 1"/>
          <p:cNvSpPr/>
          <p:nvPr/>
        </p:nvSpPr>
        <p:spPr>
          <a:xfrm>
            <a:off x="539640" y="33764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a62a"/>
                </a:solidFill>
                <a:latin typeface="Verdana"/>
              </a:rPr>
              <a:t>Data collection of EU citrus production data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1835280" y="472428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Unit G.2. - Wine, spirits, and horticultural product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DG Agriculture and Rural Developme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1" name="TextBox 2"/>
          <p:cNvSpPr/>
          <p:nvPr/>
        </p:nvSpPr>
        <p:spPr>
          <a:xfrm>
            <a:off x="755640" y="595008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200" spc="-1" strike="noStrike">
                <a:solidFill>
                  <a:srgbClr val="ffff66"/>
                </a:solidFill>
                <a:latin typeface="Verdana"/>
              </a:rPr>
              <a:t>23 November 2020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Context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7BDB-8FE9-400C-B07C-8965255704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rostat updating its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Statistics on Agricultural Input and Output Regulation, known as “SAIO”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Regulation (EC) No 543/2009 of the European Parliament and of the Council of 18 June 2009 concerning crop statistic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ill notably include organic area and production for a number of f&amp;v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itrus fruit as a whole, oranges as a whole, strawberries, stone fruits, pip fruits, cherries, plums, berries, grapes, etc.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rrectional adjustments to f&amp;v sub-categories also proposed, notably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ITRUS…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Current framework for citrus fruit:</a:t>
            </a:r>
            <a:br>
              <a:rPr sz="2800"/>
            </a:b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mandatory data transmiss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07FE-DA4C-4FE8-94EA-E7C86C0680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07" name="Content Placeholder 1" descr=""/>
          <p:cNvPicPr/>
          <p:nvPr/>
        </p:nvPicPr>
        <p:blipFill>
          <a:blip r:embed="rId1"/>
          <a:stretch/>
        </p:blipFill>
        <p:spPr>
          <a:xfrm>
            <a:off x="874800" y="2325600"/>
            <a:ext cx="7416720" cy="1973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"/>
          <p:cNvPicPr/>
          <p:nvPr/>
        </p:nvPicPr>
        <p:blipFill>
          <a:blip r:embed="rId2"/>
          <a:stretch/>
        </p:blipFill>
        <p:spPr>
          <a:xfrm>
            <a:off x="860400" y="4319640"/>
            <a:ext cx="7445520" cy="1993680"/>
          </a:xfrm>
          <a:prstGeom prst="rect">
            <a:avLst/>
          </a:prstGeom>
          <a:ln w="0">
            <a:noFill/>
          </a:ln>
        </p:spPr>
      </p:pic>
      <p:pic>
        <p:nvPicPr>
          <p:cNvPr id="509" name="Content Placeholder 4" descr=""/>
          <p:cNvPicPr/>
          <p:nvPr/>
        </p:nvPicPr>
        <p:blipFill>
          <a:blip r:embed="rId3"/>
          <a:stretch/>
        </p:blipFill>
        <p:spPr>
          <a:xfrm>
            <a:off x="250920" y="81000"/>
            <a:ext cx="183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Current framework for citrus fruit:</a:t>
            </a:r>
            <a:br>
              <a:rPr sz="2800"/>
            </a:b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voluntary data transmiss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B1D9-FFF3-4362-A602-90D93AC498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12" name="Content Placeholder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943680" cy="11718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919080" y="3716280"/>
            <a:ext cx="6905880" cy="1363680"/>
          </a:xfrm>
          <a:prstGeom prst="rect">
            <a:avLst/>
          </a:prstGeom>
          <a:ln w="0">
            <a:noFill/>
          </a:ln>
        </p:spPr>
      </p:pic>
      <p:pic>
        <p:nvPicPr>
          <p:cNvPr id="514" name="Content Placeholder 4" descr=""/>
          <p:cNvPicPr/>
          <p:nvPr/>
        </p:nvPicPr>
        <p:blipFill>
          <a:blip r:embed="rId3"/>
          <a:stretch/>
        </p:blipFill>
        <p:spPr>
          <a:xfrm>
            <a:off x="250920" y="136440"/>
            <a:ext cx="183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762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urrent framework for citrus fruit: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mbined nomenclature for trad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6" name="Content Placeholder 4" descr=""/>
          <p:cNvPicPr/>
          <p:nvPr/>
        </p:nvPicPr>
        <p:blipFill>
          <a:blip r:embed="rId1"/>
          <a:stretch/>
        </p:blipFill>
        <p:spPr>
          <a:xfrm>
            <a:off x="2536920" y="2349360"/>
            <a:ext cx="4110120" cy="4435560"/>
          </a:xfrm>
          <a:prstGeom prst="rect">
            <a:avLst/>
          </a:prstGeom>
          <a:ln w="0">
            <a:noFill/>
          </a:ln>
        </p:spPr>
      </p:pic>
      <p:sp>
        <p:nvSpPr>
          <p:cNvPr id="51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88A8-0BEC-4E01-8B2D-BFC78655DE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18" name="Content Placeholder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3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762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posed new mandatory data transmission for p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E3BA-FCE3-478E-9648-10A03F302B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21" name="Content Placeholder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836720" cy="1225440"/>
          </a:xfrm>
          <a:prstGeom prst="rect">
            <a:avLst/>
          </a:prstGeom>
          <a:ln w="0">
            <a:noFill/>
          </a:ln>
        </p:spPr>
      </p:pic>
      <p:pic>
        <p:nvPicPr>
          <p:cNvPr id="522" name="Content Placeholder 6" descr=""/>
          <p:cNvPicPr/>
          <p:nvPr/>
        </p:nvPicPr>
        <p:blipFill>
          <a:blip r:embed="rId2"/>
          <a:stretch/>
        </p:blipFill>
        <p:spPr>
          <a:xfrm>
            <a:off x="806400" y="2421000"/>
            <a:ext cx="756936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762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posed new mandatory data transmission for p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5BAF-53A9-4F3B-929E-D2B420059F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25" name="Content Placeholder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836720" cy="12254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move sub-categories of orang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mall citrus fruit category with 3 sub-categories (satsumas, clementines, others incl. mandarines)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name lemons without “yellow”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move separate category for lim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1" lang="en-GB" sz="4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Have your say!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DE ANGELIS Antonio (AGRI)</dc:creator>
  <dc:description/>
  <dc:language>en-US</dc:language>
  <cp:lastModifiedBy>KEIDEL Celine (AGRI)</cp:lastModifiedBy>
  <cp:lastPrinted>2020-06-11T07:45:49Z</cp:lastPrinted>
  <dcterms:modified xsi:type="dcterms:W3CDTF">2020-11-19T10:54:40Z</dcterms:modified>
  <cp:revision>669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