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800" y="744120"/>
            <a:ext cx="6615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2a3b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D4E03EF-6D2D-44A4-B2B6-3B9A75DD72B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DAD41EB-3A5E-4C84-A94F-926620896905}" type="slidenum">
              <a:rPr b="0" lang="fr-FR" sz="1300" spc="-1" strike="noStrike">
                <a:solidFill>
                  <a:srgbClr val="923d8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D4C0F0F-6D33-4C1C-A526-4EF1AD749982}" type="slidenum">
              <a:rPr b="0" lang="fr-FR" sz="1300" spc="-1" strike="noStrike">
                <a:solidFill>
                  <a:srgbClr val="923d8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717C58A-C939-493B-81D0-E4036CDFF277}" type="slidenum">
              <a:rPr b="0" lang="fr-FR" sz="1300" spc="-1" strike="noStrike">
                <a:solidFill>
                  <a:srgbClr val="923d8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ED3A12F-28A2-44F0-BC9A-32C93786C0B0}" type="slidenum">
              <a:rPr b="0" lang="fr-FR" sz="1300" spc="-1" strike="noStrike">
                <a:solidFill>
                  <a:srgbClr val="923d8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032-A885-47D7-A9D0-218E386A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D7A-683E-42C6-845D-46C16F1D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2E1-B4B1-4771-BF69-661818F0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C00-F23D-41F7-A8BD-30F2ADB4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ECE2-4E54-4B3C-9D5F-08FFB596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3725-823B-48F2-B1CE-2D86EE23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62A5-D0F0-4C9B-A7C6-3DAC1ED9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6552-E711-469D-A1FD-F885BBB4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2209-6E0D-453D-9999-9230E1D3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277920"/>
            <a:ext cx="109728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0C80-F363-40C7-A41A-571458FF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9234-FA5A-43EF-A898-DC09F3F5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6EC-6C3E-45FD-BD22-5DF876F3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F13F-5782-44DE-9C9D-F0DD8C36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6782-0FB6-4B78-A854-87230066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1CC8-DCD0-419B-9851-2A920549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4D72-60C0-4DFB-89B4-9908D865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67EA-A28F-4BE8-8449-30BFA326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91D-849C-4B18-AAD2-DA7254EA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D6F-1F33-4450-BAFB-4BC362FF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87D-BA6D-4DCD-B5B1-A728093C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77920"/>
            <a:ext cx="109728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651-7775-47FD-AD00-620E79D0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BFD-CEE4-491B-942A-0C20CFF4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767-0B75-44C1-9241-CC896D10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2E4-7081-42A1-8D08-8C4DF402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2a3b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8d2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62a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7d52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28d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62a3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923d8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923d8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56F7-207F-48E0-AB33-D8297C5E34D1}" type="slidenum">
              <a:rPr b="0" lang="fr-F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304920" cy="2286000"/>
          </a:xfrm>
          <a:prstGeom prst="rect">
            <a:avLst/>
          </a:prstGeom>
          <a:solidFill>
            <a:srgbClr val="f28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609480" y="1447920"/>
            <a:ext cx="10769760" cy="0"/>
          </a:xfrm>
          <a:prstGeom prst="line">
            <a:avLst/>
          </a:prstGeom>
          <a:ln w="19080">
            <a:solidFill>
              <a:srgbClr val="962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304920" cy="2286000"/>
          </a:xfrm>
          <a:prstGeom prst="rect">
            <a:avLst/>
          </a:prstGeom>
          <a:solidFill>
            <a:srgbClr val="c7d5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304920" cy="2286000"/>
          </a:xfrm>
          <a:prstGeom prst="rect">
            <a:avLst/>
          </a:prstGeom>
          <a:solidFill>
            <a:srgbClr val="962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304920" y="2889360"/>
            <a:ext cx="11480400" cy="201600"/>
            <a:chOff x="304920" y="2889360"/>
            <a:chExt cx="11480400" cy="201600"/>
          </a:xfrm>
        </p:grpSpPr>
        <p:sp>
          <p:nvSpPr>
            <p:cNvPr id="46" name="Rectangle 8"/>
            <p:cNvSpPr/>
            <p:nvPr/>
          </p:nvSpPr>
          <p:spPr>
            <a:xfrm>
              <a:off x="304920" y="2889360"/>
              <a:ext cx="3826800" cy="201600"/>
            </a:xfrm>
            <a:prstGeom prst="rect">
              <a:avLst/>
            </a:prstGeom>
            <a:solidFill>
              <a:srgbClr val="f28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4131720" y="2889360"/>
              <a:ext cx="3826800" cy="201600"/>
            </a:xfrm>
            <a:prstGeom prst="rect">
              <a:avLst/>
            </a:prstGeom>
            <a:solidFill>
              <a:srgbClr val="c7d5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7958880" y="2889360"/>
              <a:ext cx="3826440" cy="201600"/>
            </a:xfrm>
            <a:prstGeom prst="rect">
              <a:avLst/>
            </a:prstGeom>
            <a:solidFill>
              <a:srgbClr val="962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2a3b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8d2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62a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7d52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28d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62a3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923d8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923d8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23d8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3D8B-3AF0-46C0-A1CC-8237EF4A2510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.simon@cevi-eciw.eu" TargetMode="External"/><Relationship Id="rId3" Type="http://schemas.openxmlformats.org/officeDocument/2006/relationships/hyperlink" Target="http://www.cevi-eciw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EVIlogo2"/>
          <p:cNvPicPr/>
          <p:nvPr/>
        </p:nvPicPr>
        <p:blipFill>
          <a:blip r:embed="rId1"/>
          <a:stretch/>
        </p:blipFill>
        <p:spPr>
          <a:xfrm>
            <a:off x="4881600" y="37400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334800" y="909720"/>
            <a:ext cx="11449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23d85"/>
                </a:solidFill>
                <a:latin typeface="Tahoma"/>
              </a:rPr>
              <a:t>Wine Market Observatory Expert Group</a:t>
            </a:r>
            <a:br>
              <a:rPr sz="4200"/>
            </a:br>
            <a:r>
              <a:rPr b="0" lang="fr-FR" sz="4200" spc="-1" strike="noStrike">
                <a:solidFill>
                  <a:srgbClr val="923d85"/>
                </a:solidFill>
                <a:latin typeface="Tahoma"/>
              </a:rPr>
              <a:t>-</a:t>
            </a:r>
            <a:endParaRPr b="0" lang="en-US" sz="42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23d85"/>
                </a:solidFill>
                <a:latin typeface="Tahoma"/>
              </a:rPr>
              <a:t>6 May 2020</a:t>
            </a:r>
            <a:endParaRPr b="0" lang="en-US" sz="20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99" name="Espace réservé du numéro de diapositive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C815-CAD9-41D7-A47D-DD1065DDB238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3740040"/>
            <a:ext cx="4881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23d85"/>
                </a:solidFill>
                <a:latin typeface="Tahoma"/>
              </a:rPr>
              <a:t>Matilde Poggi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7310520" y="3740040"/>
            <a:ext cx="4881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23d85"/>
                </a:solidFill>
                <a:latin typeface="Tahoma"/>
              </a:rPr>
              <a:t>Pierre Bernhard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23880" y="277920"/>
            <a:ext cx="11160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28d2c"/>
                </a:solidFill>
                <a:latin typeface="Tahoma"/>
              </a:rPr>
              <a:t>COVID-19 specific measures targeting HORECA and off-trade market 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28d2c"/>
                </a:solidFill>
                <a:latin typeface="Tahoma"/>
              </a:rPr>
              <a:t>(update 30 April 2020) 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03" name="Espace réservé du numéro de diapositive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3FED-A397-42D6-A0F0-7DA963E1514A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923d85"/>
              </a:solidFill>
              <a:latin typeface="Arial"/>
            </a:endParaRPr>
          </a:p>
        </p:txBody>
      </p:sp>
      <p:pic>
        <p:nvPicPr>
          <p:cNvPr id="104" name="Image 4" descr=""/>
          <p:cNvPicPr/>
          <p:nvPr/>
        </p:nvPicPr>
        <p:blipFill>
          <a:blip r:embed="rId1"/>
          <a:srcRect l="19309" t="0" r="0" b="0"/>
          <a:stretch/>
        </p:blipFill>
        <p:spPr>
          <a:xfrm>
            <a:off x="623880" y="1603440"/>
            <a:ext cx="5789520" cy="4994280"/>
          </a:xfrm>
          <a:prstGeom prst="rect">
            <a:avLst/>
          </a:prstGeom>
          <a:ln w="9360">
            <a:solidFill>
              <a:srgbClr val="c7d52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5" name="Groupe 5"/>
          <p:cNvGrpSpPr/>
          <p:nvPr/>
        </p:nvGrpSpPr>
        <p:grpSpPr>
          <a:xfrm>
            <a:off x="6672240" y="2144880"/>
            <a:ext cx="6826320" cy="2075400"/>
            <a:chOff x="6672240" y="2144880"/>
            <a:chExt cx="6826320" cy="2075400"/>
          </a:xfrm>
        </p:grpSpPr>
        <p:sp>
          <p:nvSpPr>
            <p:cNvPr id="106" name="Rectangle 14"/>
            <p:cNvSpPr/>
            <p:nvPr/>
          </p:nvSpPr>
          <p:spPr>
            <a:xfrm>
              <a:off x="6672240" y="3394080"/>
              <a:ext cx="226800" cy="180720"/>
            </a:xfrm>
            <a:prstGeom prst="rect">
              <a:avLst/>
            </a:prstGeom>
            <a:solidFill>
              <a:srgbClr val="e31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07" name="ZoneTexte 15"/>
            <p:cNvSpPr/>
            <p:nvPr/>
          </p:nvSpPr>
          <p:spPr>
            <a:xfrm>
              <a:off x="6948000" y="3332880"/>
              <a:ext cx="513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HORECA and off-trade market entirely closed </a:t>
              </a:r>
              <a:endParaRPr b="0" lang="en-US" sz="14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08" name="Rectangle 16"/>
            <p:cNvSpPr/>
            <p:nvPr/>
          </p:nvSpPr>
          <p:spPr>
            <a:xfrm>
              <a:off x="6672240" y="3976560"/>
              <a:ext cx="226800" cy="180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09" name="ZoneTexte 17"/>
            <p:cNvSpPr/>
            <p:nvPr/>
          </p:nvSpPr>
          <p:spPr>
            <a:xfrm>
              <a:off x="6958440" y="3913200"/>
              <a:ext cx="65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Limitation on hours, locality or for specific reasons </a:t>
              </a:r>
              <a:endParaRPr b="0" lang="en-US" sz="14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6672240" y="2205000"/>
              <a:ext cx="226800" cy="179280"/>
            </a:xfrm>
            <a:prstGeom prst="rect">
              <a:avLst/>
            </a:prstGeom>
            <a:solidFill>
              <a:srgbClr val="2e9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11" name="ZoneTexte 11"/>
            <p:cNvSpPr/>
            <p:nvPr/>
          </p:nvSpPr>
          <p:spPr>
            <a:xfrm>
              <a:off x="6816240" y="2144880"/>
              <a:ext cx="43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HORECA and off-trade market open</a:t>
              </a:r>
              <a:endParaRPr b="0" lang="en-US" sz="14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6672240" y="2828880"/>
              <a:ext cx="226800" cy="179280"/>
            </a:xfrm>
            <a:prstGeom prst="rect">
              <a:avLst/>
            </a:prstGeom>
            <a:solidFill>
              <a:srgbClr val="fd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13" name="ZoneTexte 13"/>
            <p:cNvSpPr/>
            <p:nvPr/>
          </p:nvSpPr>
          <p:spPr>
            <a:xfrm>
              <a:off x="6816240" y="2781000"/>
              <a:ext cx="513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HORECA closed, off-trade market open</a:t>
              </a:r>
              <a:endParaRPr b="0" lang="en-US" sz="1400" spc="-1" strike="noStrike">
                <a:solidFill>
                  <a:srgbClr val="923d85"/>
                </a:solidFill>
                <a:latin typeface="Arial"/>
              </a:endParaRPr>
            </a:p>
          </p:txBody>
        </p:sp>
      </p:grpSp>
      <p:sp>
        <p:nvSpPr>
          <p:cNvPr id="114" name="ZoneTexte 6"/>
          <p:cNvSpPr/>
          <p:nvPr/>
        </p:nvSpPr>
        <p:spPr>
          <a:xfrm>
            <a:off x="555120" y="6576840"/>
            <a:ext cx="47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923d85"/>
                </a:solidFill>
                <a:latin typeface="Arial"/>
              </a:rPr>
              <a:t>Source: Governments official reports &amp; local stakeholders</a:t>
            </a:r>
            <a:endParaRPr b="0" lang="en-US" sz="14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23880" y="277920"/>
            <a:ext cx="107283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28d2c"/>
                </a:solidFill>
                <a:latin typeface="Tahoma"/>
              </a:rPr>
              <a:t>Key figures turnover – Independant Winegrowers sector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28d2c"/>
                </a:solidFill>
                <a:latin typeface="Tahoma"/>
              </a:rPr>
              <a:t>(on average, ongoing)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16" name="Espace réservé du numéro de diapositive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AF80-CACB-4D36-9A6C-F7AA3F3D7AE3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923d85"/>
              </a:solidFill>
              <a:latin typeface="Arial"/>
            </a:endParaRPr>
          </a:p>
        </p:txBody>
      </p:sp>
      <p:pic>
        <p:nvPicPr>
          <p:cNvPr id="117" name="Image 2" descr=""/>
          <p:cNvPicPr/>
          <p:nvPr/>
        </p:nvPicPr>
        <p:blipFill>
          <a:blip r:embed="rId1"/>
          <a:srcRect l="11527" t="-2475" r="3973" b="0"/>
          <a:stretch/>
        </p:blipFill>
        <p:spPr>
          <a:xfrm>
            <a:off x="604800" y="1773360"/>
            <a:ext cx="2251080" cy="2176200"/>
          </a:xfrm>
          <a:prstGeom prst="rect">
            <a:avLst/>
          </a:prstGeom>
          <a:ln w="9360">
            <a:solidFill>
              <a:srgbClr val="c7d52f"/>
            </a:solidFill>
            <a:miter/>
          </a:ln>
        </p:spPr>
      </p:pic>
      <p:sp>
        <p:nvSpPr>
          <p:cNvPr id="118" name="Rectangle 22"/>
          <p:cNvSpPr/>
          <p:nvPr/>
        </p:nvSpPr>
        <p:spPr>
          <a:xfrm>
            <a:off x="3071880" y="1773360"/>
            <a:ext cx="2448000" cy="2171520"/>
          </a:xfrm>
          <a:prstGeom prst="rect">
            <a:avLst/>
          </a:prstGeom>
          <a:noFill/>
          <a:ln w="9360">
            <a:solidFill>
              <a:srgbClr val="c7d5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ch 2020 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s March 2019: 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-51%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3071880" y="4110120"/>
            <a:ext cx="2448000" cy="2170080"/>
          </a:xfrm>
          <a:prstGeom prst="rect">
            <a:avLst/>
          </a:prstGeom>
          <a:noFill/>
          <a:ln w="9360">
            <a:solidFill>
              <a:srgbClr val="c7d5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ril 2020 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s April 2019 (estimation): 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-71%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graphicFrame>
        <p:nvGraphicFramePr>
          <p:cNvPr id="120" name="Graphique 20"/>
          <p:cNvGraphicFramePr/>
          <p:nvPr/>
        </p:nvGraphicFramePr>
        <p:xfrm>
          <a:off x="5684760" y="1722600"/>
          <a:ext cx="6193080" cy="4628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Graphiqu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84760" y="1722600"/>
                    <a:ext cx="6193080" cy="46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ZoneTexte 25"/>
          <p:cNvSpPr/>
          <p:nvPr/>
        </p:nvSpPr>
        <p:spPr>
          <a:xfrm>
            <a:off x="1005840" y="496404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23d85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107427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28d2c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f28d2c"/>
                </a:solidFill>
                <a:latin typeface="Tahoma"/>
              </a:rPr>
              <a:t>further</a:t>
            </a:r>
            <a:r>
              <a:rPr b="1" lang="fr-FR" sz="2800" spc="-1" strike="noStrike">
                <a:solidFill>
                  <a:srgbClr val="f28d2c"/>
                </a:solidFill>
                <a:latin typeface="Tahoma"/>
              </a:rPr>
              <a:t> information please contact:</a:t>
            </a:r>
            <a:endParaRPr b="0" lang="en-US" sz="2800" spc="-1" strike="noStrike">
              <a:solidFill>
                <a:srgbClr val="962a3b"/>
              </a:solidFill>
              <a:latin typeface="Garamond"/>
            </a:endParaRPr>
          </a:p>
        </p:txBody>
      </p:sp>
      <p:pic>
        <p:nvPicPr>
          <p:cNvPr id="124" name="Picture 3" descr="CEVIlogo2"/>
          <p:cNvPicPr/>
          <p:nvPr/>
        </p:nvPicPr>
        <p:blipFill>
          <a:blip r:embed="rId1"/>
          <a:stretch/>
        </p:blipFill>
        <p:spPr>
          <a:xfrm>
            <a:off x="5014800" y="3849840"/>
            <a:ext cx="2162160" cy="2160360"/>
          </a:xfrm>
          <a:prstGeom prst="rect">
            <a:avLst/>
          </a:prstGeom>
          <a:ln w="0">
            <a:noFill/>
          </a:ln>
        </p:spPr>
      </p:pic>
      <p:sp>
        <p:nvSpPr>
          <p:cNvPr id="125" name="Espace réservé du numéro de diapositive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13F7-0E5B-4D12-8503-51CBC3830A8D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26" name="ZoneTexte 3"/>
          <p:cNvSpPr/>
          <p:nvPr/>
        </p:nvSpPr>
        <p:spPr>
          <a:xfrm>
            <a:off x="723960" y="2133720"/>
            <a:ext cx="1074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3d85"/>
                </a:solidFill>
                <a:latin typeface="Arial"/>
              </a:rPr>
              <a:t>Christophe Simon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.simon@cevi-eciw.eu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cevi-eciw.eu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3d85"/>
                </a:solidFill>
                <a:latin typeface="Arial"/>
              </a:rPr>
              <a:t>+33.1.53.66.32.99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3d85"/>
                </a:solidFill>
                <a:latin typeface="Arial"/>
              </a:rPr>
              <a:t>+33.6.07.07.78.03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5:04:20Z</dcterms:created>
  <dc:creator>vif</dc:creator>
  <dc:description/>
  <dc:language>en-US</dc:language>
  <cp:lastModifiedBy>LARIVIERE Vincent (AGRI)</cp:lastModifiedBy>
  <cp:lastPrinted>2020-05-05T13:40:58Z</cp:lastPrinted>
  <dcterms:modified xsi:type="dcterms:W3CDTF">2020-05-06T07:36:54Z</dcterms:modified>
  <cp:revision>272</cp:revision>
  <dc:subject/>
  <dc:title>Diapositive 1</dc:title>
</cp:coreProperties>
</file>